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ADDC-B832-46F0-99C6-ADF57F849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878B-6CAE-45EC-9D39-8BDE01D80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98BA-EE3B-4B6D-A534-0B41B757D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835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5767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9072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835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5767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B808-7AEE-459A-B2E3-8451D01E3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5AEAD-9624-43A5-AC97-257B87CD7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BEBC6-65CD-4DDB-B3EA-F16E1DE78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52541-3971-4D7D-8DA6-32E590D5B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8A0A5-6232-4F72-B32C-F97B44E48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CCA34-87A6-4591-93A9-AA0EFCC3F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B4751-AA48-4223-8F55-7AD2AB8DA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BFA57-1ED5-4FB9-B099-1307BE76E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FE2B-2EC1-44DF-B644-9386944EF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11DC4-8907-4286-8FE3-A03DB0CA7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915D6-DAD5-4CBB-87BD-7D5961D97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42E4A-1828-4CC3-BE59-CAE41BF43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11367-07BE-4AAB-B8E4-9C48891EE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835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5767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99072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835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5767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1F8BE-0FB2-481B-91B2-3ECAEC288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DA26-8623-4A4C-9585-A36D51BAF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E1FF-BE66-42DD-B69E-C3AD7E469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EF8B-3B0B-4269-B04F-22F932B47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7EC6-5C59-4466-9CCF-A5178A101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B15C-09FB-4EEB-A335-3B1339853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1193-A814-49ED-971E-6F336328F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4D2C-479F-4602-B930-A38A1C34A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DD55A-AE78-497F-AA27-1493855C16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ECAEA-C8B7-474C-81B3-D2211EA87A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~PP4024.WAV" TargetMode="External"/><Relationship Id="rId2" Type="http://schemas.microsoft.com/office/2007/relationships/media" Target="file:///tmp/home/.config/libreoffice/4/user/gallery/~PP4024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comic"/>
              </a:rPr>
              <a:t>Immigration Interview</a:t>
            </a:r>
            <a:br>
              <a:rPr sz="4800"/>
            </a:br>
            <a:r>
              <a:rPr b="1" lang="en-US" sz="4800" spc="-1" strike="noStrike">
                <a:solidFill>
                  <a:srgbClr val="ffffb7"/>
                </a:solidFill>
                <a:latin typeface="comic"/>
              </a:rPr>
              <a:t> </a:t>
            </a:r>
            <a:r>
              <a:rPr b="1" lang="en-US" sz="4000" spc="-1" strike="noStrike">
                <a:solidFill>
                  <a:srgbClr val="ffffb7"/>
                </a:solidFill>
                <a:latin typeface="comic"/>
              </a:rPr>
              <a:t>(Bob M.)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lackadder ITC"/>
              </a:rPr>
              <a:t>By Serra Googi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724960" y="64389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00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8T03:33:55Z</dcterms:created>
  <dc:creator> </dc:creator>
  <dc:description/>
  <dc:language>en-US</dc:language>
  <cp:lastModifiedBy> </cp:lastModifiedBy>
  <dcterms:modified xsi:type="dcterms:W3CDTF">2012-02-28T04:21:03Z</dcterms:modified>
  <cp:revision>2</cp:revision>
  <dc:subject/>
  <dc:title>Immigration Interview  (Bob M.)</dc:title>
</cp:coreProperties>
</file>